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C25-6B23-401C-AD1D-37729B25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B23-2B7C-45D5-95E2-ED04ABB8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B7D-C2A1-48BF-A1C9-1DE34976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B59-CBEB-4771-938C-EEF3A46B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64A6-CB72-4CDE-A951-5E9A4C0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DC60-0F0D-454E-9210-A740824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1F60-89DE-4F28-AAE4-49BF4E16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323D-CCF7-4276-B6BB-553A4C2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7098-D735-49F0-990B-42C7569B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1C2-FA5E-4075-8FC5-113E01F3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4BF2-0E09-4AD4-872A-C0A6C79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2FD-75F9-4707-9603-45ECAF62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3F4-4960-4A89-8ED6-436BA78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C426-8765-4E56-AD09-88DC30A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7DB-76E6-4EC8-9B22-9D74FBE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46E9-1E76-4C5B-B369-A58A460C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AE70-F78E-46C6-9D7F-452D0EEC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FA8-788B-4DAD-8980-E68E56C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694-BA26-4B04-8A08-68D567E0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A19-E65B-4E06-9A3B-55AC151E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880-B549-4A25-847A-11AB243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A61-448B-4DB0-A27F-89DAA1D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ABD-C5FC-49FA-B3E7-97AF062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FE3-13A0-47E4-A4D3-6A0AF5F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B89-09BF-4458-B871-6EBD0E8561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AEF-44CF-4649-87D5-44D8C27753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unching the New Ship of Stat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789-18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mergence of Political Part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parties had not existed in America when George Washington took office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as once a personal feud between Thomas Jefferson and Alexander Hamilton had developed into a full-blown and bitter political rival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1790s, Jefferson and Madison organized their opposition to the Hamiltonian progra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wo-party sys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emer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ffersonian Democratic-Republicans vs. Hamiltonian Federali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act of the French Revolu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rench Revol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started in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an peacefully, entered a violent phase when France declared war on Austria King Louis XVI was beheaded, church was attacked, and Reign of Terror began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supported revolu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at view changed when the attitude of the revolution 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5049720"/>
            <a:ext cx="2286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PA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thor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ho created the source? What is their point of view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ce and 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Where and when was the source produc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or Knowled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at do you already know that would further your understanding of this sour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udie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For whom was the source created? Does this affect the reliability of the sour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s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y was this source produced at the time it was produc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Main Ide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at is the source trying to conve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ifica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- Why is this source importa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swer questions at the end of the docu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Promp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eople had YouTube during this time period, what do you think they would be posting videos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shington for Presid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animously elected as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Electoral College in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the cabin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State: Thomas Jefferson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the Treasury: Alexander Hamil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ary of War: Henry Kno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42040" y="1143000"/>
            <a:ext cx="20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ll of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ames Madi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wrote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ed by Congres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9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iciary Act of 1789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created the Supreme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justice and five associ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district and circuit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the office of attorney gen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ohn J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became the first Chief Ju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ublic Credi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exander Hamilt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created plan to shape policies of the administration to favor the wealthier groups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ier groups would then lend money &amp; political support to the gover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lth in the government would trickle down through soci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10080" y="4659480"/>
            <a:ext cx="24386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blic Credi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would pay off debt at face value plus inte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 national cred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inced Congress to take on states’ deb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w/ small debts disagr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omise: District of Colombia is placed on Potomac Ri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stoms, Duties &amp; Excise T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ilton's objectives: to keep a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tional deb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re creditors to whom the government owed money, the more people there would be with a personal stake in the success of the gover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4105440"/>
            <a:ext cx="2857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stoms, Duties &amp; Excise Tax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ed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riff revenues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ay interest on the huge debt and run the government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tariff law passed by Congress i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8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sed a low tax of 8% on the value of im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ose to create revenue &amp; a small protective wall around small industr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ed additional internal revenue &amp; a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ise ta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on a few domestic items, notably whisk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milton Battles Jefferson for a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exander Hamilton proposed a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nk of the United St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that could print paper money and thus provide a stable national currency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mas Jefferson strongly opposed the Bank stating it was unconstitutional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lt the states had the right to manage their own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sition came from the south &amp; support came from the no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 Bank of the United States was created in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7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  Its charter lasted for 20 years &amp; was located in Philadelph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tiny in Pennsylva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iskey Rebellion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d by distillers who strongly opposed the 1791 excise tax on whiskey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d when Washington sent in federal troops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 message was sent by the government stating that it would enforce the 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5024520"/>
            <a:ext cx="28958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2:59:04Z</dcterms:created>
  <dc:creator>emily.johnson</dc:creator>
  <dc:description/>
  <dc:language>en-US</dc:language>
  <cp:lastModifiedBy>emily.johnson</cp:lastModifiedBy>
  <dcterms:modified xsi:type="dcterms:W3CDTF">2012-10-09T13:15:08Z</dcterms:modified>
  <cp:revision>5</cp:revision>
  <dc:subject/>
  <dc:title>Launching the New Ship of State</dc:title>
</cp:coreProperties>
</file>